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6E35-BAA2-4412-9AC4-90A22508FC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eproductive Value: : The relat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of stag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ong-term populatio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ust insert the qualifier “relative” because eigenvectors can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ed by any nonzero consta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It is customar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cal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1 so that its first entry i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0EA7-F614-46E4-807B-CC716A0BFE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29B-E487-4E62-8DA9-0E37B18E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68F-FB38-42B4-A491-D4C677AD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F78-B400-4264-892D-46D1B4E0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EE5-55D4-41A0-82A9-5B0186B0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F54-B61B-4890-9C8C-D427E6D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48D-A7DF-48E1-A154-BC496E5A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6FB-8941-4777-9E79-9B1021DD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421-AF7D-4564-8F6B-91FC7846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625-D4AA-498E-B5D5-6C7106E1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B38-C0CA-47BC-B7A9-5832AA6B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847-1F1C-4491-91A8-213DE20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904-8AA9-4567-A348-349F2224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80F-80A4-4C78-9A5E-B9A1732DF8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regonstate.edu/dept/nursery-weeds/weedspeciespage/teasel/seedling_750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otit.botany.wisc.edu/images/veg/North._Dry_N_Dry_Mesic/Cypripedium_acaule_VK.php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Gráficos de ciclo de vid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t172w01"/>
          <p:cNvPicPr/>
          <p:nvPr/>
        </p:nvPicPr>
        <p:blipFill>
          <a:blip r:embed="rId1"/>
          <a:stretch/>
        </p:blipFill>
        <p:spPr>
          <a:xfrm>
            <a:off x="684360" y="2421000"/>
            <a:ext cx="2336760" cy="347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5473800" cy="271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68360" y="59500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gyroxiphium sandwicen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Valor reproductivo V(x)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autovector izquierdo de la matriz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20000" y="299736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v 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6486480" cy="331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6877080" y="3789360"/>
            <a:ext cx="2071800" cy="206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Análisis del modelo matric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Sensibil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704000" y="2997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3384720" cy="24778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6" name="Picture 9" descr=""/>
          <p:cNvPicPr/>
          <p:nvPr/>
        </p:nvPicPr>
        <p:blipFill>
          <a:blip r:embed="rId3"/>
          <a:stretch/>
        </p:blipFill>
        <p:spPr>
          <a:xfrm>
            <a:off x="250920" y="2205000"/>
            <a:ext cx="7308720" cy="710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Análisis del modelo matric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6600"/>
                </a:solidFill>
                <a:latin typeface="Comic Sans MS"/>
              </a:rPr>
              <a:t>Elastic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7704000" y="2997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4535640" cy="12542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51" name="Picture 8" descr=""/>
          <p:cNvPicPr/>
          <p:nvPr/>
        </p:nvPicPr>
        <p:blipFill>
          <a:blip r:embed="rId3"/>
          <a:stretch/>
        </p:blipFill>
        <p:spPr>
          <a:xfrm>
            <a:off x="1835280" y="2133720"/>
            <a:ext cx="4768560" cy="661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psacus sylvestr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1844640"/>
          <a:ext cx="4574880" cy="2536920"/>
        </p:xfrm>
        <a:graphic>
          <a:graphicData uri="http://schemas.openxmlformats.org/drawingml/2006/table">
            <a:tbl>
              <a:tblPr/>
              <a:tblGrid>
                <a:gridCol w="487080"/>
                <a:gridCol w="648000"/>
                <a:gridCol w="647640"/>
                <a:gridCol w="649080"/>
                <a:gridCol w="648000"/>
                <a:gridCol w="704520"/>
                <a:gridCol w="790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663" descr="teasel seedl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58136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65" descr="teasel rosette"/>
          <p:cNvPicPr/>
          <p:nvPr/>
        </p:nvPicPr>
        <p:blipFill>
          <a:blip r:embed="rId3"/>
          <a:stretch/>
        </p:blipFill>
        <p:spPr>
          <a:xfrm>
            <a:off x="4859280" y="450864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67" descr="Dipsacus Sylvestris por forteller.ipernity.com."/>
          <p:cNvPicPr/>
          <p:nvPr/>
        </p:nvPicPr>
        <p:blipFill>
          <a:blip r:embed="rId4"/>
          <a:stretch/>
        </p:blipFill>
        <p:spPr>
          <a:xfrm>
            <a:off x="7020000" y="1700280"/>
            <a:ext cx="1952640" cy="2603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69" descr="Dipsacus sylvestris"/>
          <p:cNvPicPr/>
          <p:nvPr/>
        </p:nvPicPr>
        <p:blipFill>
          <a:blip r:embed="rId5"/>
          <a:stretch/>
        </p:blipFill>
        <p:spPr>
          <a:xfrm>
            <a:off x="179280" y="2565360"/>
            <a:ext cx="1944720" cy="18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psacus sylvestr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95640" y="1844640"/>
          <a:ext cx="4574880" cy="2536920"/>
        </p:xfrm>
        <a:graphic>
          <a:graphicData uri="http://schemas.openxmlformats.org/drawingml/2006/table">
            <a:tbl>
              <a:tblPr/>
              <a:tblGrid>
                <a:gridCol w="487080"/>
                <a:gridCol w="648000"/>
                <a:gridCol w="647640"/>
                <a:gridCol w="649080"/>
                <a:gridCol w="648000"/>
                <a:gridCol w="704520"/>
                <a:gridCol w="790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70" descr="teasel seedling"/>
          <p:cNvPicPr/>
          <p:nvPr/>
        </p:nvPicPr>
        <p:blipFill>
          <a:blip r:embed="rId1"/>
          <a:stretch/>
        </p:blipFill>
        <p:spPr>
          <a:xfrm>
            <a:off x="2195640" y="458136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1" descr="teasel rosette"/>
          <p:cNvPicPr/>
          <p:nvPr/>
        </p:nvPicPr>
        <p:blipFill>
          <a:blip r:embed="rId2"/>
          <a:stretch/>
        </p:blipFill>
        <p:spPr>
          <a:xfrm>
            <a:off x="4859280" y="450864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2" descr="Dipsacus Sylvestris por forteller.ipernity.com."/>
          <p:cNvPicPr/>
          <p:nvPr/>
        </p:nvPicPr>
        <p:blipFill>
          <a:blip r:embed="rId3"/>
          <a:stretch/>
        </p:blipFill>
        <p:spPr>
          <a:xfrm>
            <a:off x="7020000" y="1700280"/>
            <a:ext cx="1952640" cy="260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3" descr="Dipsacus sylvestris"/>
          <p:cNvPicPr/>
          <p:nvPr/>
        </p:nvPicPr>
        <p:blipFill>
          <a:blip r:embed="rId4"/>
          <a:stretch/>
        </p:blipFill>
        <p:spPr>
          <a:xfrm>
            <a:off x="179280" y="2565360"/>
            <a:ext cx="1944720" cy="18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4"/>
          <p:cNvSpPr/>
          <p:nvPr/>
        </p:nvSpPr>
        <p:spPr>
          <a:xfrm>
            <a:off x="900000" y="1364760"/>
            <a:ext cx="700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exo. Categorías IUC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peligro crítico - Critically endangered (CR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álisis cuantitativo de la probabilidad de extinción en su habitat natural es de al menos el 50% en 10 años o 3 generaciones, la que sea más larg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enazadas - Endangered (E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álisis cuantitativo de la probabilidad de extinción en su habitat natural es de al menos el 20% en 20 años o 5 generaciones, la que sea más lar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ulnerable (V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álisis cuantitativo de la probabilidad de extinción en su habitat natural es de al menos el 10% en 100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9" descr=""/>
          <p:cNvPicPr/>
          <p:nvPr/>
        </p:nvPicPr>
        <p:blipFill>
          <a:blip r:embed="rId1"/>
          <a:stretch/>
        </p:blipFill>
        <p:spPr>
          <a:xfrm>
            <a:off x="900000" y="2249640"/>
            <a:ext cx="6551640" cy="4492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Gráficos de ciclo de vid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Cypripedium acaule V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2232000"/>
            <a:ext cx="154620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Gráficos de ciclo de vid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55640" y="2556000"/>
            <a:ext cx="246708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3564000" y="2133720"/>
            <a:ext cx="5113440" cy="2536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68360" y="50785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ryphantha robbins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4716360" y="3230640"/>
            <a:ext cx="8654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6732720" y="3301920"/>
            <a:ext cx="865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 rot="14944200">
            <a:off x="3852720" y="3589200"/>
            <a:ext cx="719280" cy="719280"/>
          </a:xfrm>
          <a:custGeom>
            <a:avLst/>
            <a:gdLst>
              <a:gd name="textAreaLeft" fmla="*/ 105120 w 719280"/>
              <a:gd name="textAreaRight" fmla="*/ 614160 w 719280"/>
              <a:gd name="textAreaTop" fmla="*/ 105120 h 719280"/>
              <a:gd name="textAreaBottom" fmla="*/ 614160 h 719280"/>
            </a:gdLst>
            <a:ahLst/>
            <a:rect l="textAreaLeft" t="textAreaTop" r="textAreaRight" b="textAreaBottom"/>
            <a:pathLst>
              <a:path w="21600" h="21600">
                <a:moveTo>
                  <a:pt x="17522" y="5245"/>
                </a:moveTo>
                <a:cubicBezTo>
                  <a:pt x="15866" y="3239"/>
                  <a:pt x="13400" y="2079"/>
                  <a:pt x="10800" y="2079"/>
                </a:cubicBezTo>
                <a:cubicBezTo>
                  <a:pt x="5983" y="2079"/>
                  <a:pt x="2079" y="5983"/>
                  <a:pt x="2079" y="10800"/>
                </a:cubicBezTo>
                <a:cubicBezTo>
                  <a:pt x="2079" y="15616"/>
                  <a:pt x="5983" y="19521"/>
                  <a:pt x="10800" y="19521"/>
                </a:cubicBezTo>
                <a:cubicBezTo>
                  <a:pt x="11451" y="19521"/>
                  <a:pt x="12101" y="19447"/>
                  <a:pt x="12736" y="19303"/>
                </a:cubicBezTo>
                <a:lnTo>
                  <a:pt x="13198" y="21330"/>
                </a:lnTo>
                <a:cubicBezTo>
                  <a:pt x="12411" y="21509"/>
                  <a:pt x="11607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021" y="-1"/>
                  <a:pt x="17073" y="1437"/>
                  <a:pt x="19125" y="3920"/>
                </a:cubicBezTo>
                <a:lnTo>
                  <a:pt x="21207" y="2200"/>
                </a:lnTo>
                <a:lnTo>
                  <a:pt x="20706" y="7465"/>
                </a:lnTo>
                <a:lnTo>
                  <a:pt x="15441" y="6964"/>
                </a:lnTo>
                <a:lnTo>
                  <a:pt x="17522" y="5245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 rot="14944200">
            <a:off x="5797440" y="3662280"/>
            <a:ext cx="719280" cy="719280"/>
          </a:xfrm>
          <a:custGeom>
            <a:avLst/>
            <a:gdLst>
              <a:gd name="textAreaLeft" fmla="*/ 105120 w 719280"/>
              <a:gd name="textAreaRight" fmla="*/ 614160 w 719280"/>
              <a:gd name="textAreaTop" fmla="*/ 105120 h 719280"/>
              <a:gd name="textAreaBottom" fmla="*/ 614160 h 719280"/>
            </a:gdLst>
            <a:ahLst/>
            <a:rect l="textAreaLeft" t="textAreaTop" r="textAreaRight" b="textAreaBottom"/>
            <a:pathLst>
              <a:path w="21600" h="21600">
                <a:moveTo>
                  <a:pt x="17522" y="5245"/>
                </a:moveTo>
                <a:cubicBezTo>
                  <a:pt x="15866" y="3239"/>
                  <a:pt x="13400" y="2079"/>
                  <a:pt x="10800" y="2079"/>
                </a:cubicBezTo>
                <a:cubicBezTo>
                  <a:pt x="5983" y="2079"/>
                  <a:pt x="2079" y="5983"/>
                  <a:pt x="2079" y="10800"/>
                </a:cubicBezTo>
                <a:cubicBezTo>
                  <a:pt x="2079" y="15616"/>
                  <a:pt x="5983" y="19521"/>
                  <a:pt x="10800" y="19521"/>
                </a:cubicBezTo>
                <a:cubicBezTo>
                  <a:pt x="11743" y="19521"/>
                  <a:pt x="12679" y="19368"/>
                  <a:pt x="13573" y="19068"/>
                </a:cubicBezTo>
                <a:lnTo>
                  <a:pt x="14235" y="21039"/>
                </a:lnTo>
                <a:cubicBezTo>
                  <a:pt x="13127" y="21410"/>
                  <a:pt x="11967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021" y="-1"/>
                  <a:pt x="17073" y="1437"/>
                  <a:pt x="19125" y="3920"/>
                </a:cubicBezTo>
                <a:lnTo>
                  <a:pt x="21207" y="2200"/>
                </a:lnTo>
                <a:lnTo>
                  <a:pt x="20706" y="7465"/>
                </a:lnTo>
                <a:lnTo>
                  <a:pt x="15441" y="6964"/>
                </a:lnTo>
                <a:lnTo>
                  <a:pt x="17522" y="5245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 rot="14944200">
            <a:off x="7670520" y="3662280"/>
            <a:ext cx="719280" cy="718920"/>
          </a:xfrm>
          <a:custGeom>
            <a:avLst/>
            <a:gdLst>
              <a:gd name="textAreaLeft" fmla="*/ 105120 w 719280"/>
              <a:gd name="textAreaRight" fmla="*/ 614160 w 719280"/>
              <a:gd name="textAreaTop" fmla="*/ 105120 h 718920"/>
              <a:gd name="textAreaBottom" fmla="*/ 613800 h 718920"/>
            </a:gdLst>
            <a:ahLst/>
            <a:rect l="textAreaLeft" t="textAreaTop" r="textAreaRight" b="textAreaBottom"/>
            <a:pathLst>
              <a:path w="21600" h="21600">
                <a:moveTo>
                  <a:pt x="17522" y="5245"/>
                </a:moveTo>
                <a:cubicBezTo>
                  <a:pt x="15866" y="3239"/>
                  <a:pt x="13400" y="2079"/>
                  <a:pt x="10800" y="2079"/>
                </a:cubicBezTo>
                <a:cubicBezTo>
                  <a:pt x="5983" y="2079"/>
                  <a:pt x="2079" y="5983"/>
                  <a:pt x="2079" y="10800"/>
                </a:cubicBezTo>
                <a:cubicBezTo>
                  <a:pt x="2079" y="15616"/>
                  <a:pt x="5983" y="19521"/>
                  <a:pt x="10800" y="19521"/>
                </a:cubicBezTo>
                <a:cubicBezTo>
                  <a:pt x="11451" y="19521"/>
                  <a:pt x="12101" y="19447"/>
                  <a:pt x="12736" y="19303"/>
                </a:cubicBezTo>
                <a:lnTo>
                  <a:pt x="13198" y="21330"/>
                </a:lnTo>
                <a:cubicBezTo>
                  <a:pt x="12411" y="21509"/>
                  <a:pt x="11607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021" y="-1"/>
                  <a:pt x="17073" y="1437"/>
                  <a:pt x="19125" y="3920"/>
                </a:cubicBezTo>
                <a:lnTo>
                  <a:pt x="21207" y="2200"/>
                </a:lnTo>
                <a:lnTo>
                  <a:pt x="20706" y="7465"/>
                </a:lnTo>
                <a:lnTo>
                  <a:pt x="15441" y="6964"/>
                </a:lnTo>
                <a:lnTo>
                  <a:pt x="17522" y="5245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5"/>
          <p:cNvSpPr/>
          <p:nvPr/>
        </p:nvSpPr>
        <p:spPr>
          <a:xfrm>
            <a:off x="4357800" y="2365200"/>
            <a:ext cx="3743280" cy="43200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358" h="272">
                <a:moveTo>
                  <a:pt x="2358" y="272"/>
                </a:moveTo>
                <a:cubicBezTo>
                  <a:pt x="2252" y="204"/>
                  <a:pt x="2146" y="136"/>
                  <a:pt x="1950" y="91"/>
                </a:cubicBezTo>
                <a:cubicBezTo>
                  <a:pt x="1754" y="46"/>
                  <a:pt x="1436" y="0"/>
                  <a:pt x="1179" y="0"/>
                </a:cubicBezTo>
                <a:cubicBezTo>
                  <a:pt x="922" y="0"/>
                  <a:pt x="604" y="53"/>
                  <a:pt x="408" y="91"/>
                </a:cubicBezTo>
                <a:cubicBezTo>
                  <a:pt x="212" y="129"/>
                  <a:pt x="106" y="178"/>
                  <a:pt x="0" y="2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2637000"/>
          <a:ext cx="2400480" cy="231912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803160" y="2622600"/>
          <a:ext cx="2400480" cy="231912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26920" y="2637000"/>
          <a:ext cx="2400480" cy="231912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atriz de transició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7"/>
          <p:cNvGrpSpPr/>
          <p:nvPr/>
        </p:nvGrpSpPr>
        <p:grpSpPr>
          <a:xfrm>
            <a:off x="4572000" y="2548080"/>
            <a:ext cx="3457440" cy="2033280"/>
            <a:chOff x="4572000" y="2548080"/>
            <a:chExt cx="3457440" cy="2033280"/>
          </a:xfrm>
        </p:grpSpPr>
        <p:pic>
          <p:nvPicPr>
            <p:cNvPr id="74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0" y="2548080"/>
              <a:ext cx="3457440" cy="20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7"/>
            <p:cNvSpPr/>
            <p:nvPr/>
          </p:nvSpPr>
          <p:spPr>
            <a:xfrm>
              <a:off x="5351040" y="3427200"/>
              <a:ext cx="585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6714360" y="3484440"/>
              <a:ext cx="58464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 rot="14944200">
              <a:off x="4721760" y="3759120"/>
              <a:ext cx="576360" cy="486000"/>
            </a:xfrm>
            <a:custGeom>
              <a:avLst/>
              <a:gdLst>
                <a:gd name="textAreaLeft" fmla="*/ 83880 w 576360"/>
                <a:gd name="textAreaRight" fmla="*/ 492480 w 576360"/>
                <a:gd name="textAreaTop" fmla="*/ 70560 h 486000"/>
                <a:gd name="textAreaBottom" fmla="*/ 41544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0"/>
            <p:cNvSpPr/>
            <p:nvPr/>
          </p:nvSpPr>
          <p:spPr>
            <a:xfrm rot="14944200">
              <a:off x="6036480" y="3817800"/>
              <a:ext cx="576360" cy="486000"/>
            </a:xfrm>
            <a:custGeom>
              <a:avLst/>
              <a:gdLst>
                <a:gd name="textAreaLeft" fmla="*/ 83880 w 576360"/>
                <a:gd name="textAreaRight" fmla="*/ 492480 w 576360"/>
                <a:gd name="textAreaTop" fmla="*/ 70560 h 486000"/>
                <a:gd name="textAreaBottom" fmla="*/ 41544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743" y="19521"/>
                    <a:pt x="12679" y="19368"/>
                    <a:pt x="13573" y="19068"/>
                  </a:cubicBezTo>
                  <a:lnTo>
                    <a:pt x="14235" y="21039"/>
                  </a:lnTo>
                  <a:cubicBezTo>
                    <a:pt x="13127" y="21410"/>
                    <a:pt x="1196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1"/>
            <p:cNvSpPr/>
            <p:nvPr/>
          </p:nvSpPr>
          <p:spPr>
            <a:xfrm rot="14944200">
              <a:off x="7303320" y="3817800"/>
              <a:ext cx="576360" cy="486000"/>
            </a:xfrm>
            <a:custGeom>
              <a:avLst/>
              <a:gdLst>
                <a:gd name="textAreaLeft" fmla="*/ 83880 w 576360"/>
                <a:gd name="textAreaRight" fmla="*/ 492480 w 576360"/>
                <a:gd name="textAreaTop" fmla="*/ 70560 h 486000"/>
                <a:gd name="textAreaBottom" fmla="*/ 41544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5108400" y="2733480"/>
              <a:ext cx="2530800" cy="345960"/>
            </a:xfrm>
            <a:custGeom>
              <a:avLst/>
              <a:gdLst>
                <a:gd name="textAreaLeft" fmla="*/ 0 w 2530800"/>
                <a:gd name="textAreaRight" fmla="*/ 2531160 w 253080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358" h="272">
                  <a:moveTo>
                    <a:pt x="2358" y="272"/>
                  </a:moveTo>
                  <a:cubicBezTo>
                    <a:pt x="2252" y="204"/>
                    <a:pt x="2146" y="136"/>
                    <a:pt x="1950" y="91"/>
                  </a:cubicBezTo>
                  <a:cubicBezTo>
                    <a:pt x="1754" y="46"/>
                    <a:pt x="1436" y="0"/>
                    <a:pt x="1179" y="0"/>
                  </a:cubicBezTo>
                  <a:cubicBezTo>
                    <a:pt x="922" y="0"/>
                    <a:pt x="604" y="53"/>
                    <a:pt x="408" y="91"/>
                  </a:cubicBezTo>
                  <a:cubicBezTo>
                    <a:pt x="212" y="129"/>
                    <a:pt x="106" y="178"/>
                    <a:pt x="0" y="2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1403280" y="2565360"/>
          <a:ext cx="2400480" cy="231948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atriz de Lesli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79520" y="2565360"/>
          <a:ext cx="2400480" cy="231948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Group 51"/>
          <p:cNvGrpSpPr/>
          <p:nvPr/>
        </p:nvGrpSpPr>
        <p:grpSpPr>
          <a:xfrm>
            <a:off x="4572000" y="2690640"/>
            <a:ext cx="3529080" cy="2033640"/>
            <a:chOff x="4572000" y="2690640"/>
            <a:chExt cx="3529080" cy="2033640"/>
          </a:xfrm>
        </p:grpSpPr>
        <p:grpSp>
          <p:nvGrpSpPr>
            <p:cNvPr id="86" name="Group 4"/>
            <p:cNvGrpSpPr/>
            <p:nvPr/>
          </p:nvGrpSpPr>
          <p:grpSpPr>
            <a:xfrm>
              <a:off x="4572000" y="2690640"/>
              <a:ext cx="3457440" cy="2033640"/>
              <a:chOff x="4572000" y="2690640"/>
              <a:chExt cx="3457440" cy="2033640"/>
            </a:xfrm>
          </p:grpSpPr>
          <p:pic>
            <p:nvPicPr>
              <p:cNvPr id="87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2690640"/>
                <a:ext cx="3457440" cy="203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Line 6"/>
              <p:cNvSpPr/>
              <p:nvPr/>
            </p:nvSpPr>
            <p:spPr>
              <a:xfrm>
                <a:off x="5351040" y="3569760"/>
                <a:ext cx="58500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6714360" y="3627000"/>
                <a:ext cx="58464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8"/>
              <p:cNvSpPr/>
              <p:nvPr/>
            </p:nvSpPr>
            <p:spPr>
              <a:xfrm rot="14944200">
                <a:off x="4721760" y="3902040"/>
                <a:ext cx="576360" cy="486000"/>
              </a:xfrm>
              <a:custGeom>
                <a:avLst/>
                <a:gdLst>
                  <a:gd name="textAreaLeft" fmla="*/ 83880 w 576360"/>
                  <a:gd name="textAreaRight" fmla="*/ 492480 w 576360"/>
                  <a:gd name="textAreaTop" fmla="*/ 70560 h 486000"/>
                  <a:gd name="textAreaBottom" fmla="*/ 41544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522" y="5245"/>
                    </a:moveTo>
                    <a:cubicBezTo>
                      <a:pt x="15866" y="3239"/>
                      <a:pt x="13400" y="2079"/>
                      <a:pt x="10800" y="2079"/>
                    </a:cubicBezTo>
                    <a:cubicBezTo>
                      <a:pt x="5983" y="2079"/>
                      <a:pt x="2079" y="5983"/>
                      <a:pt x="2079" y="10800"/>
                    </a:cubicBezTo>
                    <a:cubicBezTo>
                      <a:pt x="2079" y="15616"/>
                      <a:pt x="5983" y="19521"/>
                      <a:pt x="10800" y="19521"/>
                    </a:cubicBezTo>
                    <a:cubicBezTo>
                      <a:pt x="11451" y="19521"/>
                      <a:pt x="12101" y="19447"/>
                      <a:pt x="12736" y="19303"/>
                    </a:cubicBezTo>
                    <a:lnTo>
                      <a:pt x="13198" y="21330"/>
                    </a:lnTo>
                    <a:cubicBezTo>
                      <a:pt x="12411" y="21509"/>
                      <a:pt x="11607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4021" y="-1"/>
                      <a:pt x="17073" y="1437"/>
                      <a:pt x="19125" y="3920"/>
                    </a:cubicBezTo>
                    <a:lnTo>
                      <a:pt x="21207" y="2200"/>
                    </a:lnTo>
                    <a:lnTo>
                      <a:pt x="20706" y="7465"/>
                    </a:lnTo>
                    <a:lnTo>
                      <a:pt x="15441" y="6964"/>
                    </a:lnTo>
                    <a:lnTo>
                      <a:pt x="17522" y="5245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9"/>
              <p:cNvSpPr/>
              <p:nvPr/>
            </p:nvSpPr>
            <p:spPr>
              <a:xfrm rot="14944200">
                <a:off x="6036480" y="3960720"/>
                <a:ext cx="576360" cy="486000"/>
              </a:xfrm>
              <a:custGeom>
                <a:avLst/>
                <a:gdLst>
                  <a:gd name="textAreaLeft" fmla="*/ 83880 w 576360"/>
                  <a:gd name="textAreaRight" fmla="*/ 492480 w 576360"/>
                  <a:gd name="textAreaTop" fmla="*/ 70560 h 486000"/>
                  <a:gd name="textAreaBottom" fmla="*/ 41544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522" y="5245"/>
                    </a:moveTo>
                    <a:cubicBezTo>
                      <a:pt x="15866" y="3239"/>
                      <a:pt x="13400" y="2079"/>
                      <a:pt x="10800" y="2079"/>
                    </a:cubicBezTo>
                    <a:cubicBezTo>
                      <a:pt x="5983" y="2079"/>
                      <a:pt x="2079" y="5983"/>
                      <a:pt x="2079" y="10800"/>
                    </a:cubicBezTo>
                    <a:cubicBezTo>
                      <a:pt x="2079" y="15616"/>
                      <a:pt x="5983" y="19521"/>
                      <a:pt x="10800" y="19521"/>
                    </a:cubicBezTo>
                    <a:cubicBezTo>
                      <a:pt x="11743" y="19521"/>
                      <a:pt x="12679" y="19368"/>
                      <a:pt x="13573" y="19068"/>
                    </a:cubicBezTo>
                    <a:lnTo>
                      <a:pt x="14235" y="21039"/>
                    </a:lnTo>
                    <a:cubicBezTo>
                      <a:pt x="13127" y="21410"/>
                      <a:pt x="11967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4021" y="-1"/>
                      <a:pt x="17073" y="1437"/>
                      <a:pt x="19125" y="3920"/>
                    </a:cubicBezTo>
                    <a:lnTo>
                      <a:pt x="21207" y="2200"/>
                    </a:lnTo>
                    <a:lnTo>
                      <a:pt x="20706" y="7465"/>
                    </a:lnTo>
                    <a:lnTo>
                      <a:pt x="15441" y="6964"/>
                    </a:lnTo>
                    <a:lnTo>
                      <a:pt x="17522" y="5245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10"/>
              <p:cNvSpPr/>
              <p:nvPr/>
            </p:nvSpPr>
            <p:spPr>
              <a:xfrm rot="14944200">
                <a:off x="7303320" y="3960720"/>
                <a:ext cx="576360" cy="486000"/>
              </a:xfrm>
              <a:custGeom>
                <a:avLst/>
                <a:gdLst>
                  <a:gd name="textAreaLeft" fmla="*/ 83880 w 576360"/>
                  <a:gd name="textAreaRight" fmla="*/ 492480 w 576360"/>
                  <a:gd name="textAreaTop" fmla="*/ 70560 h 486000"/>
                  <a:gd name="textAreaBottom" fmla="*/ 41544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522" y="5245"/>
                    </a:moveTo>
                    <a:cubicBezTo>
                      <a:pt x="15866" y="3239"/>
                      <a:pt x="13400" y="2079"/>
                      <a:pt x="10800" y="2079"/>
                    </a:cubicBezTo>
                    <a:cubicBezTo>
                      <a:pt x="5983" y="2079"/>
                      <a:pt x="2079" y="5983"/>
                      <a:pt x="2079" y="10800"/>
                    </a:cubicBezTo>
                    <a:cubicBezTo>
                      <a:pt x="2079" y="15616"/>
                      <a:pt x="5983" y="19521"/>
                      <a:pt x="10800" y="19521"/>
                    </a:cubicBezTo>
                    <a:cubicBezTo>
                      <a:pt x="11451" y="19521"/>
                      <a:pt x="12101" y="19447"/>
                      <a:pt x="12736" y="19303"/>
                    </a:cubicBezTo>
                    <a:lnTo>
                      <a:pt x="13198" y="21330"/>
                    </a:lnTo>
                    <a:cubicBezTo>
                      <a:pt x="12411" y="21509"/>
                      <a:pt x="11607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4021" y="-1"/>
                      <a:pt x="17073" y="1437"/>
                      <a:pt x="19125" y="3920"/>
                    </a:cubicBezTo>
                    <a:lnTo>
                      <a:pt x="21207" y="2200"/>
                    </a:lnTo>
                    <a:lnTo>
                      <a:pt x="20706" y="7465"/>
                    </a:lnTo>
                    <a:lnTo>
                      <a:pt x="15441" y="6964"/>
                    </a:lnTo>
                    <a:lnTo>
                      <a:pt x="17522" y="5245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5108400" y="2876040"/>
                <a:ext cx="2530800" cy="346320"/>
              </a:xfrm>
              <a:custGeom>
                <a:avLst/>
                <a:gdLst>
                  <a:gd name="textAreaLeft" fmla="*/ 0 w 2530800"/>
                  <a:gd name="textAreaRight" fmla="*/ 2531160 w 253080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358" h="272">
                    <a:moveTo>
                      <a:pt x="2358" y="272"/>
                    </a:moveTo>
                    <a:cubicBezTo>
                      <a:pt x="2252" y="204"/>
                      <a:pt x="2146" y="136"/>
                      <a:pt x="1950" y="91"/>
                    </a:cubicBezTo>
                    <a:cubicBezTo>
                      <a:pt x="1754" y="46"/>
                      <a:pt x="1436" y="0"/>
                      <a:pt x="1179" y="0"/>
                    </a:cubicBezTo>
                    <a:cubicBezTo>
                      <a:pt x="922" y="0"/>
                      <a:pt x="604" y="53"/>
                      <a:pt x="408" y="91"/>
                    </a:cubicBezTo>
                    <a:cubicBezTo>
                      <a:pt x="212" y="129"/>
                      <a:pt x="106" y="178"/>
                      <a:pt x="0" y="227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Rectangle 50"/>
            <p:cNvSpPr/>
            <p:nvPr/>
          </p:nvSpPr>
          <p:spPr>
            <a:xfrm>
              <a:off x="4643280" y="3931920"/>
              <a:ext cx="34578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Proyecciones del tamaño poblacion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826560" y="2340000"/>
            <a:ext cx="1449720" cy="2313000"/>
            <a:chOff x="826560" y="2340000"/>
            <a:chExt cx="1449720" cy="2313000"/>
          </a:xfrm>
        </p:grpSpPr>
        <p:pic>
          <p:nvPicPr>
            <p:cNvPr id="98" name="Picture 5" descr=""/>
            <p:cNvPicPr/>
            <p:nvPr/>
          </p:nvPicPr>
          <p:blipFill>
            <a:blip r:embed="rId1"/>
            <a:stretch/>
          </p:blipFill>
          <p:spPr>
            <a:xfrm rot="5400000">
              <a:off x="394560" y="2771640"/>
              <a:ext cx="2313000" cy="14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6"/>
            <p:cNvSpPr/>
            <p:nvPr/>
          </p:nvSpPr>
          <p:spPr>
            <a:xfrm>
              <a:off x="1649520" y="286128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1608840" y="377316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"/>
            <p:cNvSpPr/>
            <p:nvPr/>
          </p:nvSpPr>
          <p:spPr>
            <a:xfrm rot="20344200">
              <a:off x="1033560" y="2470320"/>
              <a:ext cx="411120" cy="325080"/>
            </a:xfrm>
            <a:custGeom>
              <a:avLst/>
              <a:gdLst>
                <a:gd name="textAreaLeft" fmla="*/ 59760 w 411120"/>
                <a:gd name="textAreaRight" fmla="*/ 351360 w 41112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 rot="20344200">
              <a:off x="991800" y="3350160"/>
              <a:ext cx="411120" cy="325080"/>
            </a:xfrm>
            <a:custGeom>
              <a:avLst/>
              <a:gdLst>
                <a:gd name="textAreaLeft" fmla="*/ 59760 w 411120"/>
                <a:gd name="textAreaRight" fmla="*/ 351360 w 41112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743" y="19521"/>
                    <a:pt x="12679" y="19368"/>
                    <a:pt x="13573" y="19068"/>
                  </a:cubicBezTo>
                  <a:lnTo>
                    <a:pt x="14235" y="21039"/>
                  </a:lnTo>
                  <a:cubicBezTo>
                    <a:pt x="13127" y="21410"/>
                    <a:pt x="1196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 rot="20344200">
              <a:off x="991800" y="4197600"/>
              <a:ext cx="411120" cy="325080"/>
            </a:xfrm>
            <a:custGeom>
              <a:avLst/>
              <a:gdLst>
                <a:gd name="textAreaLeft" fmla="*/ 59760 w 411120"/>
                <a:gd name="textAreaRight" fmla="*/ 351360 w 41112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 rot="5400000">
              <a:off x="1173960" y="3422160"/>
              <a:ext cx="1693080" cy="246600"/>
            </a:xfrm>
            <a:custGeom>
              <a:avLst/>
              <a:gdLst>
                <a:gd name="textAreaLeft" fmla="*/ 0 w 1693080"/>
                <a:gd name="textAreaRight" fmla="*/ 1693440 w 16930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358" h="272">
                  <a:moveTo>
                    <a:pt x="2358" y="272"/>
                  </a:moveTo>
                  <a:cubicBezTo>
                    <a:pt x="2252" y="204"/>
                    <a:pt x="2146" y="136"/>
                    <a:pt x="1950" y="91"/>
                  </a:cubicBezTo>
                  <a:cubicBezTo>
                    <a:pt x="1754" y="46"/>
                    <a:pt x="1436" y="0"/>
                    <a:pt x="1179" y="0"/>
                  </a:cubicBezTo>
                  <a:cubicBezTo>
                    <a:pt x="922" y="0"/>
                    <a:pt x="604" y="53"/>
                    <a:pt x="408" y="91"/>
                  </a:cubicBezTo>
                  <a:cubicBezTo>
                    <a:pt x="212" y="129"/>
                    <a:pt x="106" y="178"/>
                    <a:pt x="0" y="2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3203640" y="2492280"/>
          <a:ext cx="2400120" cy="23194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  <a:gridCol w="7999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Group 30"/>
          <p:cNvGrpSpPr/>
          <p:nvPr/>
        </p:nvGrpSpPr>
        <p:grpSpPr>
          <a:xfrm>
            <a:off x="6291360" y="2349360"/>
            <a:ext cx="1449360" cy="2313000"/>
            <a:chOff x="6291360" y="2349360"/>
            <a:chExt cx="1449360" cy="2313000"/>
          </a:xfrm>
        </p:grpSpPr>
        <p:pic>
          <p:nvPicPr>
            <p:cNvPr id="107" name="Picture 31" descr=""/>
            <p:cNvPicPr/>
            <p:nvPr/>
          </p:nvPicPr>
          <p:blipFill>
            <a:blip r:embed="rId2"/>
            <a:stretch/>
          </p:blipFill>
          <p:spPr>
            <a:xfrm rot="5400000">
              <a:off x="5859360" y="2781000"/>
              <a:ext cx="231300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Line 32"/>
            <p:cNvSpPr/>
            <p:nvPr/>
          </p:nvSpPr>
          <p:spPr>
            <a:xfrm>
              <a:off x="7113960" y="287064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>
              <a:off x="7073280" y="378252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4"/>
            <p:cNvSpPr/>
            <p:nvPr/>
          </p:nvSpPr>
          <p:spPr>
            <a:xfrm rot="20344200">
              <a:off x="6498720" y="2479320"/>
              <a:ext cx="410760" cy="325080"/>
            </a:xfrm>
            <a:custGeom>
              <a:avLst/>
              <a:gdLst>
                <a:gd name="textAreaLeft" fmla="*/ 59760 w 410760"/>
                <a:gd name="textAreaRight" fmla="*/ 351000 w 41076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5"/>
            <p:cNvSpPr/>
            <p:nvPr/>
          </p:nvSpPr>
          <p:spPr>
            <a:xfrm rot="20344200">
              <a:off x="6456960" y="3359160"/>
              <a:ext cx="410760" cy="325080"/>
            </a:xfrm>
            <a:custGeom>
              <a:avLst/>
              <a:gdLst>
                <a:gd name="textAreaLeft" fmla="*/ 59760 w 410760"/>
                <a:gd name="textAreaRight" fmla="*/ 351000 w 41076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743" y="19521"/>
                    <a:pt x="12679" y="19368"/>
                    <a:pt x="13573" y="19068"/>
                  </a:cubicBezTo>
                  <a:lnTo>
                    <a:pt x="14235" y="21039"/>
                  </a:lnTo>
                  <a:cubicBezTo>
                    <a:pt x="13127" y="21410"/>
                    <a:pt x="1196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6"/>
            <p:cNvSpPr/>
            <p:nvPr/>
          </p:nvSpPr>
          <p:spPr>
            <a:xfrm rot="20344200">
              <a:off x="6456960" y="4206600"/>
              <a:ext cx="410760" cy="325080"/>
            </a:xfrm>
            <a:custGeom>
              <a:avLst/>
              <a:gdLst>
                <a:gd name="textAreaLeft" fmla="*/ 59760 w 410760"/>
                <a:gd name="textAreaRight" fmla="*/ 351000 w 41076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7"/>
            <p:cNvSpPr/>
            <p:nvPr/>
          </p:nvSpPr>
          <p:spPr>
            <a:xfrm rot="5400000">
              <a:off x="6638760" y="3431520"/>
              <a:ext cx="1693080" cy="246600"/>
            </a:xfrm>
            <a:custGeom>
              <a:avLst/>
              <a:gdLst>
                <a:gd name="textAreaLeft" fmla="*/ 0 w 1693080"/>
                <a:gd name="textAreaRight" fmla="*/ 1693440 w 16930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358" h="272">
                  <a:moveTo>
                    <a:pt x="2358" y="272"/>
                  </a:moveTo>
                  <a:cubicBezTo>
                    <a:pt x="2252" y="204"/>
                    <a:pt x="2146" y="136"/>
                    <a:pt x="1950" y="91"/>
                  </a:cubicBezTo>
                  <a:cubicBezTo>
                    <a:pt x="1754" y="46"/>
                    <a:pt x="1436" y="0"/>
                    <a:pt x="1179" y="0"/>
                  </a:cubicBezTo>
                  <a:cubicBezTo>
                    <a:pt x="922" y="0"/>
                    <a:pt x="604" y="53"/>
                    <a:pt x="408" y="91"/>
                  </a:cubicBezTo>
                  <a:cubicBezTo>
                    <a:pt x="212" y="129"/>
                    <a:pt x="106" y="178"/>
                    <a:pt x="0" y="2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8"/>
          <p:cNvSpPr/>
          <p:nvPr/>
        </p:nvSpPr>
        <p:spPr>
          <a:xfrm>
            <a:off x="133200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6869160" y="4791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79640" y="3573360"/>
            <a:ext cx="42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87280" y="2565360"/>
          <a:ext cx="648000" cy="2032200"/>
        </p:xfrm>
        <a:graphic>
          <a:graphicData uri="http://schemas.openxmlformats.org/drawingml/2006/table">
            <a:tbl>
              <a:tblPr/>
              <a:tblGrid>
                <a:gridCol w="648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57"/>
          <p:cNvSpPr/>
          <p:nvPr/>
        </p:nvSpPr>
        <p:spPr>
          <a:xfrm>
            <a:off x="241308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04000" y="2565360"/>
          <a:ext cx="647640" cy="203220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68"/>
          <p:cNvSpPr/>
          <p:nvPr/>
        </p:nvSpPr>
        <p:spPr>
          <a:xfrm>
            <a:off x="608472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stribución estable de ed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5160960" cy="3641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4"/>
          <p:cNvSpPr/>
          <p:nvPr/>
        </p:nvSpPr>
        <p:spPr>
          <a:xfrm>
            <a:off x="6012000" y="234936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5"/>
          <p:cNvSpPr/>
          <p:nvPr/>
        </p:nvSpPr>
        <p:spPr>
          <a:xfrm>
            <a:off x="5543640" y="3213000"/>
            <a:ext cx="360036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riz de tran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vecto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auto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3816360" cy="269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stribución estable de edades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autovector dominante de la matri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292720" y="342576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788000" y="4292640"/>
            <a:ext cx="360036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riz de tran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vecto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auto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Tasa finita de incremento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autovalor dominante de la matriz (</a:t>
            </a:r>
            <a:r>
              <a:rPr b="1" lang="es-ES" sz="27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443640" y="314172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564000" y="3213000"/>
            <a:ext cx="25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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0.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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0.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 baseline="-25000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1.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760840" cy="371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6388200" y="4005360"/>
            <a:ext cx="2071440" cy="206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46:53Z</dcterms:created>
  <dc:creator>MCR</dc:creator>
  <dc:description/>
  <dc:language>en-US</dc:language>
  <cp:lastModifiedBy>mc</cp:lastModifiedBy>
  <dcterms:modified xsi:type="dcterms:W3CDTF">2013-04-16T15:14:03Z</dcterms:modified>
  <cp:revision>23</cp:revision>
  <dc:subject/>
  <dc:title>Diapositiva 1</dc:title>
</cp:coreProperties>
</file>